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910-9114-4B3E-9E50-7A403E35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DD8-466F-4937-91C1-7154FEFC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083-9A83-44E8-BBD2-3D2A5337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26B-A3A3-4D42-B7C8-A446C6B1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1EC-79A5-4674-9F93-75EF000A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F71-1F46-4E9E-91BA-1EE3CD9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59D-0A9B-4C54-995C-1286BAA9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124-1D2B-4BD3-945A-D2396F9C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9BB-460A-4A57-9A49-094204B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00B-7A2C-4BB7-AD81-B8BB964A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F58-6855-4A4F-AC0E-303B137D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38C-23E1-4441-A143-3CD94B9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2C9-FA08-479F-80E5-3F1362EC6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2 D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d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a, O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, 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ma, Otče, ve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o tmy Slovom svojím sv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úprimnú mi srdce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láske svojej zacho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iech keď hroz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všetkých st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pred pád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chrá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včas sa zobud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ch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nikdy nezrad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eď príde úzkosť,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vždy pri mne, Pane, st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dar silou, múdrosť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hr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vojou mil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kráč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pre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vžd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smie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lúžiť blížnym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 láskou chcem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ma v svoj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52:09Z</dcterms:modified>
  <cp:revision>22</cp:revision>
  <dc:subject/>
  <dc:title>Je veľký náš Pán, on slávy je Kráľ Nech do všetkých strán  spev vrúcnych znie chvál.</dc:title>
</cp:coreProperties>
</file>